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CA4-5492-4D16-A8B8-1C19EF8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DD0-DA2E-445F-806B-A752785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B94-F5DB-4CAB-9F05-A5FC4CEB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325-043F-4419-9162-9AD5DCD9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8A1E-54B6-49BB-9343-254102B8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CA8-4298-4140-9C40-EE481F8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04D-BE4A-42CB-A881-30FAD77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F15D-0326-4696-8C13-7616ADE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04D1-A04D-4DF3-87A0-E07F5E3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2B1-E879-4992-8B7C-93D7F1F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ACA-D1EE-4473-87EB-38706BB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D13-CE20-4518-8909-B032AE2F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E56-07F8-4949-BC39-E85F83D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F2A7-EDE5-4537-AA3E-1686E5A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1B8-8D3D-4A61-A6B0-0BF5456B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59D-C808-4F1B-81E6-FCEC021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FF8-E260-4838-B50E-BE0D7D20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AD4-C37B-4808-B2CB-DFFB819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E8C-189C-407B-A307-C1C76E16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35A-1025-4980-A2A4-D194A9F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616-8516-42A5-BA63-605ACF31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A7-2A34-4BFD-A801-03255CD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F17-0CAA-4CA0-B39F-F8EE7E4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783-D240-4A7C-9BF8-8E971E2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60A-67C3-4FD7-86EA-B1C5A329B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EA8-403C-4ABE-9D9F-191920084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e</a:t>
            </a:r>
            <a:r>
              <a:rPr b="0" lang="ro-RO" sz="5400" spc="-1" strike="noStrike">
                <a:solidFill>
                  <a:srgbClr val="ccecff"/>
                </a:solidFill>
                <a:latin typeface="Arial"/>
              </a:rPr>
              <a:t>z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tarea</a:t>
            </a:r>
            <a:r>
              <a:rPr b="0" lang="ro-RO" sz="5400" spc="-1" strike="noStrike">
                <a:solidFill>
                  <a:srgbClr val="ccecff"/>
                </a:solidFill>
                <a:latin typeface="Arial"/>
              </a:rPr>
              <a:t> cărţi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lev: Micuşan Alexand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coala: “Simion Balint” Copăce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lasa: a II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pertă            cotor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agini                                          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504960" cy="246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81080" y="2133720"/>
            <a:ext cx="6098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4197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19920" y="4495320"/>
            <a:ext cx="7617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itlul cărţii es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inoc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rul es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rlo Collo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ersonajul principal: Pinoc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lte personaje: Gepetto, greierele, zâna, motanul, vulpoiul, circaru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au s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ă vă spun câteva lucruri!!! Vă rog să reţineţ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tea am procurat-o de la bibliotecă, pentru o săptămân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m studiat-o cu mare grijă, fără să rup sau să îndoi pagini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m citit cu mult interes această carte şi am învăţat multe lucruri din întâmplările şi peripeţiile lui Pinocch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comand tuturor colegilor şi prietenilor această ca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7:25Z</dcterms:created>
  <dc:creator>Cursant02</dc:creator>
  <dc:description/>
  <dc:language>en-US</dc:language>
  <cp:lastModifiedBy>Andrei</cp:lastModifiedBy>
  <dcterms:modified xsi:type="dcterms:W3CDTF">2010-09-13T20:29:28Z</dcterms:modified>
  <cp:revision>4</cp:revision>
  <dc:subject/>
  <dc:title>Prezentarea cărţii</dc:title>
</cp:coreProperties>
</file>